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8.gif" ContentType="image/gif"/>
  <Override PartName="/ppt/media/image12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wmf" ContentType="image/x-wmf"/>
  <Override PartName="/ppt/media/image7.jpeg" ContentType="image/jpeg"/>
  <Override PartName="/ppt/media/image15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666-5764-493B-8CF1-8D2ED229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9F8-33A3-4599-9DDC-B1A3F312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EA06C9-9F33-49D9-B08C-95CC8B6E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7BF9BC-180A-44EA-A5EB-D6FB6049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38723-E1B3-414D-8F8C-DFFF4C3F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8E50FE-3E01-438D-8B94-B62097AD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A3E8D5-FDD2-4B82-884A-56278BAE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9846C-D11B-4F42-9912-A5CB1475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24B11F-2DC3-4075-8DB3-C7BE7C42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637E62-D303-43B7-AE10-01C79D6B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47227A-D7CD-4CCA-80D1-F3ED596B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B59ACB-036D-4CBB-9D54-5E8CF659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3E7-AD3D-48C9-AAA8-E7C25FF2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B9E654-7D64-403D-B61A-0F275A17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E162A4-6B65-47A4-B35C-938CD514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4803D3-F81A-4BFC-B9CE-B5443630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4DB8FE-E348-4482-9A26-D32430AA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E59139-437C-4FF6-BD7C-A0454936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751595-7628-47F3-AC77-A60C12EE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EA1441-ADF1-4C53-97EA-1690CED8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11DFE9-D3C5-4353-A808-B528E5AA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ECB843-2B01-4E69-B733-124A10AC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053A7E-0454-4068-8342-8F891932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53D-5FE7-4082-9F9B-00B7ABE9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241364-75F3-47F3-8583-D94507BB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94B29-77D8-41D4-A45F-EF427EF9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84638-9018-4E68-9AFD-0EB66A29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465E9-51A0-49DC-958F-FB58F6AA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BC941-B212-42CC-9255-DB2637BA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9844F-F323-4863-9B5A-17010115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70E4E-F363-43CA-8B95-D3601C53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041A4-4E74-45D1-B53C-06239AFC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D2258-ED61-41E4-ABAF-4B3A968C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EED71-F22F-48FC-BC5D-49AB22CD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A132E-0D03-4959-877D-43FFB320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C12BD-7697-4F86-8034-228EE564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E1C5A-3B26-4A75-981B-CF9D619A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7BFD0-8195-465B-956F-4049B903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962FE-7C1A-4ACC-B9E6-1B2A339E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2A3C5-A026-4ABF-9A4F-A5BB9248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4CA62-F793-4A79-9882-E919D5BF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8D2C9-5B9B-4691-BCFE-FD3EAFBE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5FA94-8A36-4A75-B286-4CA30EB0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941D0-2D1D-4B6B-A61E-4865EA97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737D1-B35E-4CA2-9C1E-A4FCF46F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47F89-81F5-46DB-9EE5-93F3DA70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40341-D511-4DDE-9584-282C6C5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6F821-2919-45B5-BF28-B242B733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F2C23-8CBC-48BC-8D40-C3AC86A6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36570-1474-4E37-9A14-16D046DF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1BF1A-938B-49A8-9ED0-6DE845BD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3F14E-A017-4D84-9AE8-69D5FC2D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6BFB7-FF8E-4E4F-A263-EFF7CD3F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75C9E-9776-471F-AC1E-C2034F37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F98DC-D9B3-423C-A78E-3E41A70D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A76D6-51C4-4DDC-96F4-A55F3934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4E6-6AC9-4E62-BD4D-C084CE86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399C7-DF93-4E6F-A8A7-2A4EEDB1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B67EA-E578-4E73-AA3C-4287729E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82C0B-0C86-4924-A6CE-0CC624D9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4F0EC-AE4E-4CE9-9DA5-3413B780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C2272-B61E-4583-BAF0-E5089869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D0D6B-A895-45BD-882E-A2D73818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7DAF8-15C5-4870-AA0C-6C61CB0A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33B9F-FCF3-4183-8C07-A1AA1A84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068ED-9451-47C0-9863-47D9CAF4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16543-535B-4FDD-B9D5-A3F0DDAD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1D3-E2C8-441E-9FE9-FE027AE2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339C2-FF23-4177-B952-30F50A9E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87A4D-5CC7-4FD0-9743-8908AAB2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A49E4-7732-4090-8A24-052E827A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1B2EF-CC9F-4DB4-A9A5-D178512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FED6A-30A8-4135-A56B-DFBC0F3B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D1ED1-7F6B-4F1A-A542-7B6866C1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34CF5-1457-4EB4-9E5C-E3C3E5A1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135A53-9A4F-4819-A753-806500FF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6B42D9-5A81-4881-A252-B1371486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14700-69CF-4F68-AC3F-594B10C9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BFA-9AF3-4702-A9E6-673E673D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0D311-D53A-446D-807E-CE1890EC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02A77E-C200-4FE1-8995-3F8F7933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4FD82-9F23-4D47-A31C-06B383CF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5219C-6FFA-4524-940A-A080CF7C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9CD11-48B1-47A4-9872-8F46290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D298AE-DB67-49F9-AB3C-1F3E4C1D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BE901-D60B-4851-B956-3D859FCF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9DFD7-8068-4D3C-8D22-F935AEC2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6039DC-6A98-4893-A306-DE41364E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46C56-F2D4-4B6D-8104-2C52283F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316-7C94-4D36-93B6-A8FBCB3F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FDFC7-DCD0-425F-B3A6-EBE8D2D1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4491B-5430-4874-ABB9-8EECCDC5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3BB0F-658B-4944-BE6E-B8C4077B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8DB62-A8C3-4752-946A-3528C8D5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4180B-3659-4AED-BB03-CD08D997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29355-F22C-449D-837E-4E9470DC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4BA58-01D2-4DBD-9070-BE315399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956ED-25E1-48A0-9980-BC4F10B9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499D6-777C-46EA-A087-BA2BD51B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334D6-AFF0-49C9-8D8B-D587BFC0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C19-4002-4275-B975-16E8805C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C94734-6644-4208-8911-22A71B05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571DA-2280-4BE1-8DA6-CF84822A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4F954-68F4-446B-AC5C-510F17C0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8CF12-07C2-48F7-AF97-5F2C2508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87ED7-89CD-4E2D-BEA7-BD0F7685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C7066-1E6F-4EF7-80E6-F0046E47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0A6CA-F878-4E32-8151-8AFD52D0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15DCD-4B8B-4C3F-A5CF-6A3DBD9A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77AC0-E71D-4902-B61A-8081707F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E3625-2C35-4E0F-A0D3-3555051D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8D5-56ED-473D-9CF5-FEB4C9A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777F6-7643-4A61-82B1-7711687A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BC479-1894-4796-8C6D-49D077BB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6CF59-A679-4F40-984E-488947E1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E7CB9-03D4-4FBE-A0E3-3FA884F8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3C8CE-21E2-4588-89CB-9E902D24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7AE083-108B-4F17-B83C-FB7F3997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C13374-2277-4863-AB02-6558912A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D00C94-DED1-4637-A241-1CCFFA97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987FC-CF23-4803-9FEB-2587CD82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4AC7D-95F3-4231-9BAF-80308CB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601-801A-465F-96DE-658C9203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3229B-DE20-4FA6-BC12-FF474C30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6CD34-5617-446E-81D6-ECD0AC61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2C7B5-5EB7-4355-8239-90C9DDC2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FB9CA-7F6E-40B5-A1B5-5CD0672E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718B3-9703-4C6E-B1C3-7A67A12E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FF2F4C-DC7D-496F-A767-17E30CC3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72A2A9-5611-401F-BFDB-7E2D35E2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2DC01B-C66E-4C77-BDA7-A98F7B08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6397B9-DCC8-4F61-AEF9-DF388F79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FB294B-BC39-441B-B8C7-E2BFD161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872-5FED-43CC-88AD-090984AD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B4FAD2-8B2C-4C6D-9AEA-EB94E92C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0776BD-F213-4EED-B13F-698F1843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DCD74-5D2C-4A88-A3E8-80E44E28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41CE6F-E2B8-4071-978C-0A24E98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9F3796-001F-4CEF-9068-B7D08729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4C2490-3C00-452A-98A0-99E9F36D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4AC29E-348E-4462-8A96-F23377C8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F16B9E-FF57-4E1D-AC11-527A95D5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0AB8F0-F33D-4B6E-B155-FEFACF75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AD5366-B154-4D61-894B-8336B740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08A8-3428-4EE3-823B-5BF98BD4993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C3AE-953E-41F0-9E32-77F5AFFEC91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CF68-7B4E-4411-BDBE-94763DDA922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F44F-F3C8-4195-9563-AE93F2C60257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99D2-9277-4B4E-958C-F95C7B67651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CE38-3888-471C-B052-6971BB0ED3CD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Straight Connector 8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6B9F-0BA7-4400-AAC7-C22607A9D50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2A9F-054D-4268-9E7C-9D946C969451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D9A3-FAA6-4438-B988-CAB28CFA3E2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3072-5194-455B-90F5-AB92AE155D60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9B13-1AA6-4AB2-9B21-1A789712A60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5913-84DD-483C-9E8B-2096489E4E2C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2514240" y="61718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rbel"/>
              </a:rPr>
              <a:t>Gunter Polkinghorne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-19080" y="457200"/>
            <a:ext cx="80535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bin geklettert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1" name="Picture 5" descr="ANd9GcTnZnyIoapWxJBbue6SxFeRerbTZSa2g3DmCLXNBi--V9_l_fBwsA"/>
          <p:cNvPicPr/>
          <p:nvPr/>
        </p:nvPicPr>
        <p:blipFill>
          <a:blip r:embed="rId1"/>
          <a:stretch/>
        </p:blipFill>
        <p:spPr>
          <a:xfrm>
            <a:off x="2887560" y="2286000"/>
            <a:ext cx="33102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ch habe Cello gespielt mit meine Kusine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3" name="Picture 5" descr="ANd9GcTT0wY1hjZOzq_mPuobc6WVXrPTpx0lXjoqZQv_CXf35ZDUcL5HhQ"/>
          <p:cNvPicPr/>
          <p:nvPr/>
        </p:nvPicPr>
        <p:blipFill>
          <a:blip r:embed="rId1"/>
          <a:stretch/>
        </p:blipFill>
        <p:spPr>
          <a:xfrm>
            <a:off x="3276720" y="1600200"/>
            <a:ext cx="243036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bin besichtigt gegangen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5" name="Picture 5" descr="ANd9GcTsi0jca0yQVA5Yo1yU9F9m6bcNAB4p-Hknd68Lj1JIPOgG_yAyQA"/>
          <p:cNvPicPr/>
          <p:nvPr/>
        </p:nvPicPr>
        <p:blipFill>
          <a:blip r:embed="rId1"/>
          <a:stretch/>
        </p:blipFill>
        <p:spPr>
          <a:xfrm>
            <a:off x="2133720" y="1905120"/>
            <a:ext cx="4895640" cy="36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bin golf gespielen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7" name="Picture 5" descr="ANd9GcSuWruAlDs5GTjXJl7DbudTf6dGbcZlIuhRMLWccg-QtSoR-wz7"/>
          <p:cNvPicPr/>
          <p:nvPr/>
        </p:nvPicPr>
        <p:blipFill>
          <a:blip r:embed="rId1"/>
          <a:stretch/>
        </p:blipFill>
        <p:spPr>
          <a:xfrm>
            <a:off x="1600200" y="2057400"/>
            <a:ext cx="6086520" cy="30430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j0282778"/>
          <p:cNvPicPr/>
          <p:nvPr/>
        </p:nvPicPr>
        <p:blipFill>
          <a:blip r:embed="rId2"/>
          <a:stretch/>
        </p:blipFill>
        <p:spPr>
          <a:xfrm>
            <a:off x="3657600" y="3886200"/>
            <a:ext cx="380880" cy="3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Es gefallt mir gut, ist phantastich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0" name="Picture 4" descr="MP900443251[1]"/>
          <p:cNvPicPr/>
          <p:nvPr/>
        </p:nvPicPr>
        <p:blipFill>
          <a:blip r:embed="rId1"/>
          <a:stretch/>
        </p:blipFill>
        <p:spPr>
          <a:xfrm>
            <a:off x="3124080" y="1523880"/>
            <a:ext cx="31528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Du Muss gehe zum Iron Mountain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2" name="Picture 4" descr="j0336492"/>
          <p:cNvPicPr/>
          <p:nvPr/>
        </p:nvPicPr>
        <p:blipFill>
          <a:blip r:embed="rId1"/>
          <a:stretch/>
        </p:blipFill>
        <p:spPr>
          <a:xfrm>
            <a:off x="2743200" y="2133720"/>
            <a:ext cx="386244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war in meinem opas hause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3" name="Picture 1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10552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war in Iron Mountai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AutoShape 9"/>
          <p:cNvSpPr/>
          <p:nvPr/>
        </p:nvSpPr>
        <p:spPr>
          <a:xfrm>
            <a:off x="63360" y="-27000"/>
            <a:ext cx="19242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3610080" y="2828880"/>
            <a:ext cx="19238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7" name="Picture 15" descr="street1"/>
          <p:cNvPicPr/>
          <p:nvPr/>
        </p:nvPicPr>
        <p:blipFill>
          <a:blip r:embed="rId1"/>
          <a:stretch/>
        </p:blipFill>
        <p:spPr>
          <a:xfrm>
            <a:off x="2057400" y="1981080"/>
            <a:ext cx="486252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bin angle gegangen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9" name="Picture 5" descr="ANd9GcS7JDXR-MUHVE02fK1CqSxSfVUZj891Xbm_HTgJi6xg_iizbo0bRg"/>
          <p:cNvPicPr/>
          <p:nvPr/>
        </p:nvPicPr>
        <p:blipFill>
          <a:blip r:embed="rId1"/>
          <a:stretch/>
        </p:blipFill>
        <p:spPr>
          <a:xfrm>
            <a:off x="2209680" y="1905120"/>
            <a:ext cx="5081760" cy="40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bin geschwommt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1" name="Picture 4" descr="j0231369"/>
          <p:cNvPicPr/>
          <p:nvPr/>
        </p:nvPicPr>
        <p:blipFill>
          <a:blip r:embed="rId1"/>
          <a:stretch/>
        </p:blipFill>
        <p:spPr>
          <a:xfrm>
            <a:off x="1943280" y="1981080"/>
            <a:ext cx="5565600" cy="37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habe pizza gegessen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3" name="Picture 5" descr="ANd9GcRX47s7BIl72XLtIDwwuwGkurEZaUCfiATrKjs711z_ltakRwn4rQ"/>
          <p:cNvPicPr/>
          <p:nvPr/>
        </p:nvPicPr>
        <p:blipFill>
          <a:blip r:embed="rId1"/>
          <a:stretch/>
        </p:blipFill>
        <p:spPr>
          <a:xfrm>
            <a:off x="2057400" y="2057400"/>
            <a:ext cx="513864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habe gearbeitet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5" name="Picture 4" descr="j0282768"/>
          <p:cNvPicPr/>
          <p:nvPr/>
        </p:nvPicPr>
        <p:blipFill>
          <a:blip r:embed="rId1"/>
          <a:stretch/>
        </p:blipFill>
        <p:spPr>
          <a:xfrm>
            <a:off x="2666880" y="1752480"/>
            <a:ext cx="40388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5029200" cy="21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habe eine party mit meine familie gehabt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7" name="Picture 4" descr="j0237339"/>
          <p:cNvPicPr/>
          <p:nvPr/>
        </p:nvPicPr>
        <p:blipFill>
          <a:blip r:embed="rId1"/>
          <a:stretch/>
        </p:blipFill>
        <p:spPr>
          <a:xfrm>
            <a:off x="2895480" y="2590920"/>
            <a:ext cx="3829320" cy="38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habe Essen Gekauf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9" name="Picture 5" descr="ANd9GcSExp35JPo6j9_Kbrr0OL6aTRiBspmzCI6bxepnSOGx5aM1C5CD5A"/>
          <p:cNvPicPr/>
          <p:nvPr/>
        </p:nvPicPr>
        <p:blipFill>
          <a:blip r:embed="rId1"/>
          <a:stretch/>
        </p:blipFill>
        <p:spPr>
          <a:xfrm>
            <a:off x="2666880" y="2362320"/>
            <a:ext cx="4124520" cy="407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7:36Z</dcterms:created>
  <dc:creator>CUSD220</dc:creator>
  <dc:description/>
  <dc:language>en-US</dc:language>
  <cp:lastModifiedBy>Tucker</cp:lastModifiedBy>
  <dcterms:modified xsi:type="dcterms:W3CDTF">2011-11-17T00:54:47Z</dcterms:modified>
  <cp:revision>11</cp:revision>
  <dc:subject/>
  <dc:title>Meine Ferien</dc:title>
</cp:coreProperties>
</file>